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F8D-C502-42C1-A477-B5EC9E78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0F0-33DB-4F58-B4E1-43D11E44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907-B55B-4A87-ADB5-926A9673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6FE-D2D8-486F-8F7A-767763D4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D0CC-9142-4FA8-AF17-7CD42DC9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EF5A-D17C-455D-B710-87215C43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76B5-7C76-411E-B3A5-72EF6B1F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26F-EBC6-4617-B462-C88DC5F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2417-E9B6-4C34-B78D-3BA8277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C236-D2D2-48F4-B09A-2BD4D4B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C0BD-F9D3-469D-895D-4D3EEE3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AFE-509A-42BF-9125-7069408B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27D6-C632-4D43-BB6D-D298FFB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A13-9C5E-4A98-A507-C2F38B4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97FD-DAE3-4219-9BDF-2D3AAF43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6614-9B1A-4A03-A693-B359D59A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CA53-9187-4D6A-807D-5ECCC739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3EF-0B26-48FC-BEC9-57EDE5E2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89B-22E0-46EB-B7FB-B3D3A338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2B8-C3F4-46F5-AB60-7C45A480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9CD-C538-4377-B964-BFF7225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815-C350-4FDA-A71A-6CE1A18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BD8-74E4-4793-BE64-FFC6686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FFF-70F0-4121-9D61-577B444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B97E-F451-49B1-9651-25E3434393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52280"/>
            <a:ext cx="0" cy="647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52280"/>
            <a:ext cx="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67680" y="152280"/>
            <a:ext cx="0" cy="647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91720" y="152280"/>
            <a:ext cx="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880" y="-4608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Verdana"/>
              </a:rPr>
              <a:t>Basic Communication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10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11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F54E-C194-4A6B-A0A4-E26098F33E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52280"/>
            <a:ext cx="0" cy="647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280"/>
            <a:ext cx="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67680" y="152280"/>
            <a:ext cx="0" cy="647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91720" y="152280"/>
            <a:ext cx="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Verdana"/>
              </a:rPr>
              <a:t>Basic Communication Skill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372240"/>
            <a:ext cx="81630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rriers in Communication</a:t>
            </a:r>
            <a:br>
              <a:rPr sz="44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(that have to do with the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Verdana"/>
              </a:rPr>
              <a:t>RECEIVER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ive Perce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willingness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of Interest in the Topic/Su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judice &amp; Belie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buttal Instin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Valu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re-and-Now internal &amp; external fa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External Barriers in Communica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ffect of 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in the 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People – Status,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5 Basic reasons we Do Not Liste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ening is Hard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ush for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ed differences (120 wpm v/s 360 wp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of Trai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checke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 Levels of Liste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on-Liste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rginal Liste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valuative Liste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ctive Liste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roving Listening Skil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not being Preoccup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ng Open Minded &amp; Non Defen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izing Interru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ective Listening is: Hearing, interpreting when necessary, understanding the message and relating to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Asking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64200"/>
            <a:ext cx="828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MMUN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5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%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s are only labels and the listeners put their own interpretation on speakers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8% PARALINGUIS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y in which something is said - the accent, tone and voice modulation is important to the liste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5% BODY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 speaker looks like while delivering a message affects the listener’s understanding m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8083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BODY LANGUAGE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Remember that you are dealing with “PEOPLE”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03440" y="196200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OSTURES &amp; GES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use hand gestures? Sta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E)YE CO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’s your “Lighthouse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O)RI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position yourself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you deliver your mess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L)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your looks, appearance, dress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E)PRESSIONS OF E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you using facial expressions to express emo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49640" y="2286000"/>
            <a:ext cx="4643280" cy="3352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88040" y="5897520"/>
            <a:ext cx="39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 of Consciou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666880" y="2933280"/>
            <a:ext cx="167652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00240" y="2933280"/>
            <a:ext cx="167652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05320" y="2133720"/>
            <a:ext cx="342720" cy="342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571500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STABLISHING RAPPOR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 advTm="7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you go about Establishing Rapport?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need Self-Confid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ust Understand Peo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ust be Enthusia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ust make Eye Cont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ust be Interested i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57040" y="1876320"/>
            <a:ext cx="2802240" cy="1447560"/>
            <a:chOff x="257040" y="1876320"/>
            <a:chExt cx="2802240" cy="1447560"/>
          </a:xfrm>
        </p:grpSpPr>
        <p:grpSp>
          <p:nvGrpSpPr>
            <p:cNvPr id="230" name=""/>
            <p:cNvGrpSpPr/>
            <p:nvPr/>
          </p:nvGrpSpPr>
          <p:grpSpPr>
            <a:xfrm>
              <a:off x="1155600" y="1876320"/>
              <a:ext cx="1903680" cy="1447560"/>
              <a:chOff x="1155600" y="1876320"/>
              <a:chExt cx="1903680" cy="14475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076840" y="1876320"/>
                <a:ext cx="982440" cy="925560"/>
                <a:chOff x="2076840" y="1876320"/>
                <a:chExt cx="982440" cy="92556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2076840" y="1876320"/>
                  <a:ext cx="982440" cy="925560"/>
                  <a:chOff x="2076840" y="1876320"/>
                  <a:chExt cx="982440" cy="92556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2076840" y="1876320"/>
                    <a:ext cx="966960" cy="925560"/>
                    <a:chOff x="2076840" y="1876320"/>
                    <a:chExt cx="966960" cy="92556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2076840" y="1876320"/>
                      <a:ext cx="966960" cy="925560"/>
                      <a:chOff x="2076840" y="1876320"/>
                      <a:chExt cx="966960" cy="92556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2076840" y="1876320"/>
                        <a:ext cx="966960" cy="9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9" h="1973">
                            <a:moveTo>
                              <a:pt x="0" y="1649"/>
                            </a:moveTo>
                            <a:lnTo>
                              <a:pt x="168" y="1435"/>
                            </a:lnTo>
                            <a:lnTo>
                              <a:pt x="285" y="1306"/>
                            </a:lnTo>
                            <a:lnTo>
                              <a:pt x="360" y="1213"/>
                            </a:lnTo>
                            <a:lnTo>
                              <a:pt x="366" y="1101"/>
                            </a:lnTo>
                            <a:lnTo>
                              <a:pt x="330" y="1008"/>
                            </a:lnTo>
                            <a:lnTo>
                              <a:pt x="279" y="927"/>
                            </a:lnTo>
                            <a:lnTo>
                              <a:pt x="255" y="852"/>
                            </a:lnTo>
                            <a:lnTo>
                              <a:pt x="228" y="796"/>
                            </a:lnTo>
                            <a:lnTo>
                              <a:pt x="203" y="664"/>
                            </a:lnTo>
                            <a:lnTo>
                              <a:pt x="206" y="582"/>
                            </a:lnTo>
                            <a:lnTo>
                              <a:pt x="218" y="465"/>
                            </a:lnTo>
                            <a:lnTo>
                              <a:pt x="252" y="365"/>
                            </a:lnTo>
                            <a:lnTo>
                              <a:pt x="308" y="260"/>
                            </a:lnTo>
                            <a:lnTo>
                              <a:pt x="366" y="198"/>
                            </a:lnTo>
                            <a:lnTo>
                              <a:pt x="454" y="117"/>
                            </a:lnTo>
                            <a:lnTo>
                              <a:pt x="580" y="58"/>
                            </a:lnTo>
                            <a:lnTo>
                              <a:pt x="692" y="27"/>
                            </a:lnTo>
                            <a:lnTo>
                              <a:pt x="826" y="2"/>
                            </a:lnTo>
                            <a:lnTo>
                              <a:pt x="960" y="0"/>
                            </a:lnTo>
                            <a:lnTo>
                              <a:pt x="1068" y="11"/>
                            </a:lnTo>
                            <a:lnTo>
                              <a:pt x="1202" y="42"/>
                            </a:lnTo>
                            <a:lnTo>
                              <a:pt x="1328" y="86"/>
                            </a:lnTo>
                            <a:lnTo>
                              <a:pt x="1418" y="135"/>
                            </a:lnTo>
                            <a:lnTo>
                              <a:pt x="1524" y="219"/>
                            </a:lnTo>
                            <a:lnTo>
                              <a:pt x="1611" y="328"/>
                            </a:lnTo>
                            <a:lnTo>
                              <a:pt x="1670" y="440"/>
                            </a:lnTo>
                            <a:lnTo>
                              <a:pt x="1709" y="520"/>
                            </a:lnTo>
                            <a:lnTo>
                              <a:pt x="1729" y="661"/>
                            </a:lnTo>
                            <a:lnTo>
                              <a:pt x="1723" y="809"/>
                            </a:lnTo>
                            <a:lnTo>
                              <a:pt x="1710" y="921"/>
                            </a:lnTo>
                            <a:lnTo>
                              <a:pt x="1670" y="1069"/>
                            </a:lnTo>
                            <a:lnTo>
                              <a:pt x="1619" y="1218"/>
                            </a:lnTo>
                            <a:lnTo>
                              <a:pt x="1555" y="1330"/>
                            </a:lnTo>
                            <a:lnTo>
                              <a:pt x="1469" y="1451"/>
                            </a:lnTo>
                            <a:lnTo>
                              <a:pt x="1368" y="1526"/>
                            </a:lnTo>
                            <a:lnTo>
                              <a:pt x="1266" y="1565"/>
                            </a:lnTo>
                            <a:lnTo>
                              <a:pt x="1154" y="1588"/>
                            </a:lnTo>
                            <a:lnTo>
                              <a:pt x="1053" y="1587"/>
                            </a:lnTo>
                            <a:lnTo>
                              <a:pt x="972" y="1557"/>
                            </a:lnTo>
                            <a:lnTo>
                              <a:pt x="901" y="1517"/>
                            </a:lnTo>
                            <a:lnTo>
                              <a:pt x="867" y="1504"/>
                            </a:lnTo>
                            <a:lnTo>
                              <a:pt x="897" y="1582"/>
                            </a:lnTo>
                            <a:lnTo>
                              <a:pt x="949" y="1656"/>
                            </a:lnTo>
                            <a:lnTo>
                              <a:pt x="972" y="1762"/>
                            </a:lnTo>
                            <a:lnTo>
                              <a:pt x="972" y="1973"/>
                            </a:lnTo>
                            <a:lnTo>
                              <a:pt x="749" y="1956"/>
                            </a:lnTo>
                            <a:lnTo>
                              <a:pt x="528" y="1867"/>
                            </a:lnTo>
                            <a:lnTo>
                              <a:pt x="366" y="1768"/>
                            </a:lnTo>
                            <a:lnTo>
                              <a:pt x="0" y="1649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2611440" y="2219400"/>
                        <a:ext cx="5868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332">
                            <a:moveTo>
                              <a:pt x="104" y="332"/>
                            </a:moveTo>
                            <a:lnTo>
                              <a:pt x="57" y="318"/>
                            </a:lnTo>
                            <a:lnTo>
                              <a:pt x="30" y="290"/>
                            </a:lnTo>
                            <a:lnTo>
                              <a:pt x="9" y="242"/>
                            </a:lnTo>
                            <a:lnTo>
                              <a:pt x="0" y="183"/>
                            </a:lnTo>
                            <a:lnTo>
                              <a:pt x="5" y="115"/>
                            </a:lnTo>
                            <a:lnTo>
                              <a:pt x="20" y="73"/>
                            </a:lnTo>
                            <a:lnTo>
                              <a:pt x="48" y="28"/>
                            </a:lnTo>
                            <a:lnTo>
                              <a:pt x="79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2109960" y="1878840"/>
                      <a:ext cx="843840" cy="591480"/>
                      <a:chOff x="2109960" y="1878840"/>
                      <a:chExt cx="843840" cy="591480"/>
                    </a:xfrm>
                  </p:grpSpPr>
                  <p:grpSp>
                    <p:nvGrpSpPr>
                      <p:cNvPr id="238" name=""/>
                      <p:cNvGrpSpPr/>
                      <p:nvPr/>
                    </p:nvGrpSpPr>
                    <p:grpSpPr>
                      <a:xfrm>
                        <a:off x="2317680" y="1878840"/>
                        <a:ext cx="554400" cy="169920"/>
                        <a:chOff x="2317680" y="1878840"/>
                        <a:chExt cx="554400" cy="169920"/>
                      </a:xfrm>
                    </p:grpSpPr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357280" y="1904040"/>
                          <a:ext cx="514800" cy="144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1" h="311">
                              <a:moveTo>
                                <a:pt x="0" y="311"/>
                              </a:moveTo>
                              <a:lnTo>
                                <a:pt x="77" y="211"/>
                              </a:lnTo>
                              <a:lnTo>
                                <a:pt x="168" y="139"/>
                              </a:lnTo>
                              <a:lnTo>
                                <a:pt x="274" y="77"/>
                              </a:lnTo>
                              <a:lnTo>
                                <a:pt x="385" y="35"/>
                              </a:lnTo>
                              <a:lnTo>
                                <a:pt x="512" y="13"/>
                              </a:lnTo>
                              <a:lnTo>
                                <a:pt x="667" y="0"/>
                              </a:lnTo>
                              <a:lnTo>
                                <a:pt x="779" y="19"/>
                              </a:lnTo>
                              <a:lnTo>
                                <a:pt x="921" y="68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804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317680" y="1878840"/>
                          <a:ext cx="521280" cy="16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1" h="341">
                              <a:moveTo>
                                <a:pt x="0" y="341"/>
                              </a:moveTo>
                              <a:lnTo>
                                <a:pt x="49" y="245"/>
                              </a:lnTo>
                              <a:lnTo>
                                <a:pt x="106" y="168"/>
                              </a:lnTo>
                              <a:lnTo>
                                <a:pt x="177" y="100"/>
                              </a:lnTo>
                              <a:lnTo>
                                <a:pt x="273" y="41"/>
                              </a:lnTo>
                              <a:lnTo>
                                <a:pt x="409" y="6"/>
                              </a:lnTo>
                              <a:lnTo>
                                <a:pt x="540" y="0"/>
                              </a:lnTo>
                              <a:lnTo>
                                <a:pt x="682" y="16"/>
                              </a:lnTo>
                              <a:lnTo>
                                <a:pt x="801" y="45"/>
                              </a:lnTo>
                              <a:lnTo>
                                <a:pt x="871" y="73"/>
                              </a:lnTo>
                              <a:lnTo>
                                <a:pt x="931" y="103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804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1" name=""/>
                      <p:cNvGrpSpPr/>
                      <p:nvPr/>
                    </p:nvGrpSpPr>
                    <p:grpSpPr>
                      <a:xfrm>
                        <a:off x="2109960" y="1984320"/>
                        <a:ext cx="843840" cy="486000"/>
                        <a:chOff x="2109960" y="1984320"/>
                        <a:chExt cx="843840" cy="486000"/>
                      </a:xfrm>
                    </p:grpSpPr>
                    <p:grpSp>
                      <p:nvGrpSpPr>
                        <p:cNvPr id="242" name=""/>
                        <p:cNvGrpSpPr/>
                        <p:nvPr/>
                      </p:nvGrpSpPr>
                      <p:grpSpPr>
                        <a:xfrm>
                          <a:off x="2109960" y="1984320"/>
                          <a:ext cx="300960" cy="279720"/>
                          <a:chOff x="2109960" y="1984320"/>
                          <a:chExt cx="300960" cy="279720"/>
                        </a:xfrm>
                      </p:grpSpPr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2109960" y="1984320"/>
                            <a:ext cx="300960" cy="279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9" h="598">
                                <a:moveTo>
                                  <a:pt x="101" y="567"/>
                                </a:moveTo>
                                <a:lnTo>
                                  <a:pt x="30" y="490"/>
                                </a:lnTo>
                                <a:lnTo>
                                  <a:pt x="0" y="389"/>
                                </a:lnTo>
                                <a:lnTo>
                                  <a:pt x="19" y="259"/>
                                </a:lnTo>
                                <a:lnTo>
                                  <a:pt x="59" y="161"/>
                                </a:lnTo>
                                <a:lnTo>
                                  <a:pt x="90" y="113"/>
                                </a:lnTo>
                                <a:lnTo>
                                  <a:pt x="126" y="49"/>
                                </a:lnTo>
                                <a:lnTo>
                                  <a:pt x="143" y="29"/>
                                </a:lnTo>
                                <a:lnTo>
                                  <a:pt x="168" y="2"/>
                                </a:lnTo>
                                <a:lnTo>
                                  <a:pt x="195" y="0"/>
                                </a:lnTo>
                                <a:lnTo>
                                  <a:pt x="210" y="24"/>
                                </a:lnTo>
                                <a:lnTo>
                                  <a:pt x="223" y="54"/>
                                </a:lnTo>
                                <a:lnTo>
                                  <a:pt x="235" y="34"/>
                                </a:lnTo>
                                <a:lnTo>
                                  <a:pt x="264" y="31"/>
                                </a:lnTo>
                                <a:lnTo>
                                  <a:pt x="282" y="54"/>
                                </a:lnTo>
                                <a:lnTo>
                                  <a:pt x="291" y="85"/>
                                </a:lnTo>
                                <a:lnTo>
                                  <a:pt x="298" y="133"/>
                                </a:lnTo>
                                <a:lnTo>
                                  <a:pt x="319" y="120"/>
                                </a:lnTo>
                                <a:lnTo>
                                  <a:pt x="344" y="136"/>
                                </a:lnTo>
                                <a:lnTo>
                                  <a:pt x="350" y="152"/>
                                </a:lnTo>
                                <a:lnTo>
                                  <a:pt x="348" y="179"/>
                                </a:lnTo>
                                <a:lnTo>
                                  <a:pt x="344" y="203"/>
                                </a:lnTo>
                                <a:lnTo>
                                  <a:pt x="360" y="183"/>
                                </a:lnTo>
                                <a:lnTo>
                                  <a:pt x="384" y="172"/>
                                </a:lnTo>
                                <a:lnTo>
                                  <a:pt x="418" y="179"/>
                                </a:lnTo>
                                <a:lnTo>
                                  <a:pt x="422" y="200"/>
                                </a:lnTo>
                                <a:lnTo>
                                  <a:pt x="425" y="217"/>
                                </a:lnTo>
                                <a:lnTo>
                                  <a:pt x="425" y="241"/>
                                </a:lnTo>
                                <a:lnTo>
                                  <a:pt x="446" y="234"/>
                                </a:lnTo>
                                <a:lnTo>
                                  <a:pt x="469" y="247"/>
                                </a:lnTo>
                                <a:lnTo>
                                  <a:pt x="480" y="265"/>
                                </a:lnTo>
                                <a:lnTo>
                                  <a:pt x="486" y="294"/>
                                </a:lnTo>
                                <a:lnTo>
                                  <a:pt x="508" y="304"/>
                                </a:lnTo>
                                <a:lnTo>
                                  <a:pt x="520" y="340"/>
                                </a:lnTo>
                                <a:lnTo>
                                  <a:pt x="515" y="375"/>
                                </a:lnTo>
                                <a:lnTo>
                                  <a:pt x="508" y="440"/>
                                </a:lnTo>
                                <a:lnTo>
                                  <a:pt x="512" y="479"/>
                                </a:lnTo>
                                <a:lnTo>
                                  <a:pt x="526" y="507"/>
                                </a:lnTo>
                                <a:lnTo>
                                  <a:pt x="539" y="535"/>
                                </a:lnTo>
                                <a:lnTo>
                                  <a:pt x="536" y="566"/>
                                </a:lnTo>
                                <a:lnTo>
                                  <a:pt x="520" y="589"/>
                                </a:lnTo>
                                <a:lnTo>
                                  <a:pt x="500" y="598"/>
                                </a:lnTo>
                                <a:lnTo>
                                  <a:pt x="478" y="598"/>
                                </a:lnTo>
                                <a:lnTo>
                                  <a:pt x="458" y="591"/>
                                </a:lnTo>
                                <a:lnTo>
                                  <a:pt x="433" y="567"/>
                                </a:lnTo>
                                <a:lnTo>
                                  <a:pt x="422" y="547"/>
                                </a:lnTo>
                                <a:lnTo>
                                  <a:pt x="418" y="535"/>
                                </a:lnTo>
                                <a:lnTo>
                                  <a:pt x="394" y="541"/>
                                </a:lnTo>
                                <a:lnTo>
                                  <a:pt x="368" y="539"/>
                                </a:lnTo>
                                <a:lnTo>
                                  <a:pt x="348" y="529"/>
                                </a:lnTo>
                                <a:lnTo>
                                  <a:pt x="341" y="520"/>
                                </a:lnTo>
                                <a:lnTo>
                                  <a:pt x="319" y="520"/>
                                </a:lnTo>
                                <a:lnTo>
                                  <a:pt x="306" y="514"/>
                                </a:lnTo>
                                <a:lnTo>
                                  <a:pt x="298" y="508"/>
                                </a:lnTo>
                                <a:lnTo>
                                  <a:pt x="281" y="508"/>
                                </a:lnTo>
                                <a:lnTo>
                                  <a:pt x="264" y="501"/>
                                </a:lnTo>
                                <a:lnTo>
                                  <a:pt x="253" y="479"/>
                                </a:lnTo>
                                <a:lnTo>
                                  <a:pt x="241" y="462"/>
                                </a:lnTo>
                                <a:lnTo>
                                  <a:pt x="235" y="479"/>
                                </a:lnTo>
                                <a:lnTo>
                                  <a:pt x="225" y="502"/>
                                </a:lnTo>
                                <a:lnTo>
                                  <a:pt x="207" y="514"/>
                                </a:lnTo>
                                <a:lnTo>
                                  <a:pt x="191" y="516"/>
                                </a:lnTo>
                                <a:lnTo>
                                  <a:pt x="179" y="516"/>
                                </a:lnTo>
                                <a:lnTo>
                                  <a:pt x="173" y="529"/>
                                </a:lnTo>
                                <a:lnTo>
                                  <a:pt x="161" y="547"/>
                                </a:lnTo>
                                <a:lnTo>
                                  <a:pt x="143" y="567"/>
                                </a:lnTo>
                                <a:lnTo>
                                  <a:pt x="101" y="5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8040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44" name=""/>
                          <p:cNvGrpSpPr/>
                          <p:nvPr/>
                        </p:nvGrpSpPr>
                        <p:grpSpPr>
                          <a:xfrm>
                            <a:off x="2126520" y="1999800"/>
                            <a:ext cx="225360" cy="243000"/>
                            <a:chOff x="2126520" y="1999800"/>
                            <a:chExt cx="225360" cy="243000"/>
                          </a:xfrm>
                        </p:grpSpPr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2306880" y="2159640"/>
                              <a:ext cx="4500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0" h="111">
                                  <a:moveTo>
                                    <a:pt x="24" y="111"/>
                                  </a:moveTo>
                                  <a:lnTo>
                                    <a:pt x="18" y="56"/>
                                  </a:lnTo>
                                  <a:lnTo>
                                    <a:pt x="35" y="24"/>
                                  </a:lnTo>
                                  <a:lnTo>
                                    <a:pt x="80" y="0"/>
                                  </a:lnTo>
                                  <a:lnTo>
                                    <a:pt x="52" y="5"/>
                                  </a:lnTo>
                                  <a:lnTo>
                                    <a:pt x="15" y="17"/>
                                  </a:lnTo>
                                  <a:lnTo>
                                    <a:pt x="0" y="46"/>
                                  </a:lnTo>
                                  <a:lnTo>
                                    <a:pt x="24" y="11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2221560" y="2079720"/>
                              <a:ext cx="73440" cy="120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259">
                                  <a:moveTo>
                                    <a:pt x="52" y="259"/>
                                  </a:moveTo>
                                  <a:lnTo>
                                    <a:pt x="26" y="205"/>
                                  </a:lnTo>
                                  <a:lnTo>
                                    <a:pt x="31" y="124"/>
                                  </a:lnTo>
                                  <a:lnTo>
                                    <a:pt x="72" y="62"/>
                                  </a:lnTo>
                                  <a:lnTo>
                                    <a:pt x="130" y="0"/>
                                  </a:lnTo>
                                  <a:lnTo>
                                    <a:pt x="97" y="35"/>
                                  </a:lnTo>
                                  <a:lnTo>
                                    <a:pt x="38" y="78"/>
                                  </a:lnTo>
                                  <a:lnTo>
                                    <a:pt x="0" y="116"/>
                                  </a:lnTo>
                                  <a:lnTo>
                                    <a:pt x="6" y="144"/>
                                  </a:lnTo>
                                  <a:lnTo>
                                    <a:pt x="4" y="184"/>
                                  </a:lnTo>
                                  <a:lnTo>
                                    <a:pt x="4" y="223"/>
                                  </a:lnTo>
                                  <a:lnTo>
                                    <a:pt x="52" y="25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2126520" y="2145600"/>
                              <a:ext cx="48240" cy="96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208">
                                  <a:moveTo>
                                    <a:pt x="40" y="173"/>
                                  </a:moveTo>
                                  <a:lnTo>
                                    <a:pt x="0" y="108"/>
                                  </a:lnTo>
                                  <a:lnTo>
                                    <a:pt x="15" y="64"/>
                                  </a:lnTo>
                                  <a:lnTo>
                                    <a:pt x="50" y="0"/>
                                  </a:lnTo>
                                  <a:lnTo>
                                    <a:pt x="21" y="110"/>
                                  </a:lnTo>
                                  <a:lnTo>
                                    <a:pt x="43" y="158"/>
                                  </a:lnTo>
                                  <a:lnTo>
                                    <a:pt x="89" y="208"/>
                                  </a:lnTo>
                                  <a:lnTo>
                                    <a:pt x="40" y="17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2166480" y="1999800"/>
                              <a:ext cx="65160" cy="9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8" h="205">
                                  <a:moveTo>
                                    <a:pt x="118" y="0"/>
                                  </a:moveTo>
                                  <a:lnTo>
                                    <a:pt x="62" y="50"/>
                                  </a:lnTo>
                                  <a:lnTo>
                                    <a:pt x="16" y="100"/>
                                  </a:lnTo>
                                  <a:lnTo>
                                    <a:pt x="7" y="146"/>
                                  </a:lnTo>
                                  <a:lnTo>
                                    <a:pt x="0" y="205"/>
                                  </a:lnTo>
                                  <a:lnTo>
                                    <a:pt x="19" y="156"/>
                                  </a:lnTo>
                                  <a:lnTo>
                                    <a:pt x="36" y="105"/>
                                  </a:lnTo>
                                  <a:lnTo>
                                    <a:pt x="85" y="44"/>
                                  </a:lnTo>
                                  <a:lnTo>
                                    <a:pt x="11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2158200" y="2179440"/>
                              <a:ext cx="38160" cy="63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34">
                                  <a:moveTo>
                                    <a:pt x="25" y="134"/>
                                  </a:moveTo>
                                  <a:lnTo>
                                    <a:pt x="9" y="93"/>
                                  </a:lnTo>
                                  <a:lnTo>
                                    <a:pt x="0" y="64"/>
                                  </a:lnTo>
                                  <a:lnTo>
                                    <a:pt x="19" y="28"/>
                                  </a:lnTo>
                                  <a:lnTo>
                                    <a:pt x="60" y="0"/>
                                  </a:lnTo>
                                  <a:lnTo>
                                    <a:pt x="37" y="39"/>
                                  </a:lnTo>
                                  <a:lnTo>
                                    <a:pt x="22" y="77"/>
                                  </a:lnTo>
                                  <a:lnTo>
                                    <a:pt x="43" y="93"/>
                                  </a:lnTo>
                                  <a:lnTo>
                                    <a:pt x="68" y="56"/>
                                  </a:lnTo>
                                  <a:lnTo>
                                    <a:pt x="56" y="86"/>
                                  </a:lnTo>
                                  <a:lnTo>
                                    <a:pt x="25" y="13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6560" bIns="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0" name=""/>
                        <p:cNvGrpSpPr/>
                        <p:nvPr/>
                      </p:nvGrpSpPr>
                      <p:grpSpPr>
                        <a:xfrm>
                          <a:off x="2632680" y="2324160"/>
                          <a:ext cx="321120" cy="146160"/>
                          <a:chOff x="2632680" y="2324160"/>
                          <a:chExt cx="321120" cy="146160"/>
                        </a:xfrm>
                      </p:grpSpPr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2632680" y="2324160"/>
                            <a:ext cx="321120" cy="146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75" h="310">
                                <a:moveTo>
                                  <a:pt x="37" y="75"/>
                                </a:moveTo>
                                <a:lnTo>
                                  <a:pt x="140" y="79"/>
                                </a:lnTo>
                                <a:lnTo>
                                  <a:pt x="211" y="78"/>
                                </a:lnTo>
                                <a:lnTo>
                                  <a:pt x="299" y="36"/>
                                </a:lnTo>
                                <a:lnTo>
                                  <a:pt x="370" y="4"/>
                                </a:lnTo>
                                <a:lnTo>
                                  <a:pt x="435" y="0"/>
                                </a:lnTo>
                                <a:lnTo>
                                  <a:pt x="465" y="29"/>
                                </a:lnTo>
                                <a:lnTo>
                                  <a:pt x="510" y="51"/>
                                </a:lnTo>
                                <a:lnTo>
                                  <a:pt x="562" y="54"/>
                                </a:lnTo>
                                <a:lnTo>
                                  <a:pt x="575" y="79"/>
                                </a:lnTo>
                                <a:lnTo>
                                  <a:pt x="568" y="140"/>
                                </a:lnTo>
                                <a:lnTo>
                                  <a:pt x="558" y="178"/>
                                </a:lnTo>
                                <a:lnTo>
                                  <a:pt x="533" y="209"/>
                                </a:lnTo>
                                <a:lnTo>
                                  <a:pt x="496" y="248"/>
                                </a:lnTo>
                                <a:lnTo>
                                  <a:pt x="476" y="284"/>
                                </a:lnTo>
                                <a:lnTo>
                                  <a:pt x="450" y="307"/>
                                </a:lnTo>
                                <a:lnTo>
                                  <a:pt x="428" y="310"/>
                                </a:lnTo>
                                <a:lnTo>
                                  <a:pt x="395" y="279"/>
                                </a:lnTo>
                                <a:lnTo>
                                  <a:pt x="373" y="290"/>
                                </a:lnTo>
                                <a:lnTo>
                                  <a:pt x="341" y="292"/>
                                </a:lnTo>
                                <a:lnTo>
                                  <a:pt x="317" y="246"/>
                                </a:lnTo>
                                <a:lnTo>
                                  <a:pt x="302" y="253"/>
                                </a:lnTo>
                                <a:lnTo>
                                  <a:pt x="279" y="253"/>
                                </a:lnTo>
                                <a:lnTo>
                                  <a:pt x="268" y="228"/>
                                </a:lnTo>
                                <a:lnTo>
                                  <a:pt x="242" y="246"/>
                                </a:lnTo>
                                <a:lnTo>
                                  <a:pt x="217" y="261"/>
                                </a:lnTo>
                                <a:lnTo>
                                  <a:pt x="190" y="246"/>
                                </a:lnTo>
                                <a:lnTo>
                                  <a:pt x="181" y="222"/>
                                </a:lnTo>
                                <a:lnTo>
                                  <a:pt x="178" y="194"/>
                                </a:lnTo>
                                <a:lnTo>
                                  <a:pt x="133" y="200"/>
                                </a:lnTo>
                                <a:lnTo>
                                  <a:pt x="97" y="209"/>
                                </a:lnTo>
                                <a:lnTo>
                                  <a:pt x="88" y="190"/>
                                </a:lnTo>
                                <a:lnTo>
                                  <a:pt x="60" y="190"/>
                                </a:lnTo>
                                <a:lnTo>
                                  <a:pt x="18" y="160"/>
                                </a:lnTo>
                                <a:lnTo>
                                  <a:pt x="0" y="124"/>
                                </a:lnTo>
                                <a:lnTo>
                                  <a:pt x="9" y="109"/>
                                </a:lnTo>
                                <a:lnTo>
                                  <a:pt x="3" y="78"/>
                                </a:lnTo>
                                <a:lnTo>
                                  <a:pt x="37" y="7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8040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52" name=""/>
                          <p:cNvGrpSpPr/>
                          <p:nvPr/>
                        </p:nvGrpSpPr>
                        <p:grpSpPr>
                          <a:xfrm>
                            <a:off x="2680920" y="2347920"/>
                            <a:ext cx="240840" cy="110520"/>
                            <a:chOff x="2680920" y="2347920"/>
                            <a:chExt cx="240840" cy="110520"/>
                          </a:xfrm>
                        </p:grpSpPr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2680920" y="2382840"/>
                              <a:ext cx="73440" cy="30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66">
                                  <a:moveTo>
                                    <a:pt x="0" y="66"/>
                                  </a:moveTo>
                                  <a:lnTo>
                                    <a:pt x="70" y="48"/>
                                  </a:lnTo>
                                  <a:lnTo>
                                    <a:pt x="132" y="0"/>
                                  </a:lnTo>
                                  <a:lnTo>
                                    <a:pt x="108" y="36"/>
                                  </a:lnTo>
                                  <a:lnTo>
                                    <a:pt x="80" y="60"/>
                                  </a:lnTo>
                                  <a:lnTo>
                                    <a:pt x="0" y="6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200" bIns="-16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2779920" y="2347920"/>
                              <a:ext cx="58320" cy="88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7" h="188">
                                  <a:moveTo>
                                    <a:pt x="0" y="188"/>
                                  </a:moveTo>
                                  <a:lnTo>
                                    <a:pt x="37" y="123"/>
                                  </a:lnTo>
                                  <a:lnTo>
                                    <a:pt x="107" y="0"/>
                                  </a:lnTo>
                                  <a:lnTo>
                                    <a:pt x="86" y="68"/>
                                  </a:lnTo>
                                  <a:lnTo>
                                    <a:pt x="71" y="127"/>
                                  </a:lnTo>
                                  <a:lnTo>
                                    <a:pt x="0" y="18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400" bIns="41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>
                              <a:off x="2848320" y="2350440"/>
                              <a:ext cx="43560" cy="108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230">
                                  <a:moveTo>
                                    <a:pt x="0" y="230"/>
                                  </a:moveTo>
                                  <a:lnTo>
                                    <a:pt x="58" y="180"/>
                                  </a:lnTo>
                                  <a:lnTo>
                                    <a:pt x="55" y="71"/>
                                  </a:lnTo>
                                  <a:lnTo>
                                    <a:pt x="18" y="0"/>
                                  </a:lnTo>
                                  <a:lnTo>
                                    <a:pt x="64" y="68"/>
                                  </a:lnTo>
                                  <a:lnTo>
                                    <a:pt x="79" y="138"/>
                                  </a:lnTo>
                                  <a:lnTo>
                                    <a:pt x="76" y="199"/>
                                  </a:lnTo>
                                  <a:lnTo>
                                    <a:pt x="0" y="2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6" name=""/>
                            <p:cNvSpPr/>
                            <p:nvPr/>
                          </p:nvSpPr>
                          <p:spPr>
                            <a:xfrm>
                              <a:off x="2910600" y="2384280"/>
                              <a:ext cx="1116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" h="88">
                                  <a:moveTo>
                                    <a:pt x="0" y="0"/>
                                  </a:moveTo>
                                  <a:lnTo>
                                    <a:pt x="22" y="60"/>
                                  </a:lnTo>
                                  <a:lnTo>
                                    <a:pt x="14" y="88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860200" y="2054880"/>
                    <a:ext cx="199080" cy="241200"/>
                    <a:chOff x="2860200" y="2054880"/>
                    <a:chExt cx="199080" cy="2412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860200" y="2109600"/>
                      <a:ext cx="175680" cy="18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6" h="399">
                          <a:moveTo>
                            <a:pt x="18" y="168"/>
                          </a:moveTo>
                          <a:lnTo>
                            <a:pt x="52" y="92"/>
                          </a:lnTo>
                          <a:lnTo>
                            <a:pt x="77" y="64"/>
                          </a:lnTo>
                          <a:lnTo>
                            <a:pt x="111" y="21"/>
                          </a:lnTo>
                          <a:lnTo>
                            <a:pt x="167" y="0"/>
                          </a:lnTo>
                          <a:lnTo>
                            <a:pt x="216" y="8"/>
                          </a:lnTo>
                          <a:lnTo>
                            <a:pt x="254" y="31"/>
                          </a:lnTo>
                          <a:lnTo>
                            <a:pt x="289" y="75"/>
                          </a:lnTo>
                          <a:lnTo>
                            <a:pt x="314" y="148"/>
                          </a:lnTo>
                          <a:lnTo>
                            <a:pt x="316" y="202"/>
                          </a:lnTo>
                          <a:lnTo>
                            <a:pt x="298" y="257"/>
                          </a:lnTo>
                          <a:lnTo>
                            <a:pt x="266" y="307"/>
                          </a:lnTo>
                          <a:lnTo>
                            <a:pt x="235" y="345"/>
                          </a:lnTo>
                          <a:lnTo>
                            <a:pt x="179" y="388"/>
                          </a:lnTo>
                          <a:lnTo>
                            <a:pt x="115" y="399"/>
                          </a:lnTo>
                          <a:lnTo>
                            <a:pt x="56" y="384"/>
                          </a:lnTo>
                          <a:lnTo>
                            <a:pt x="9" y="337"/>
                          </a:lnTo>
                          <a:lnTo>
                            <a:pt x="0" y="273"/>
                          </a:lnTo>
                          <a:lnTo>
                            <a:pt x="18" y="168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937240" y="2162880"/>
                      <a:ext cx="53280" cy="47520"/>
                    </a:xfrm>
                    <a:prstGeom prst="ellipse">
                      <a:avLst/>
                    </a:prstGeom>
                    <a:solidFill>
                      <a:srgbClr val="00008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885040" y="2054880"/>
                      <a:ext cx="17424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0" h="252">
                          <a:moveTo>
                            <a:pt x="307" y="172"/>
                          </a:moveTo>
                          <a:lnTo>
                            <a:pt x="299" y="152"/>
                          </a:lnTo>
                          <a:lnTo>
                            <a:pt x="78" y="1"/>
                          </a:lnTo>
                          <a:lnTo>
                            <a:pt x="57" y="0"/>
                          </a:lnTo>
                          <a:lnTo>
                            <a:pt x="35" y="8"/>
                          </a:lnTo>
                          <a:lnTo>
                            <a:pt x="15" y="25"/>
                          </a:lnTo>
                          <a:lnTo>
                            <a:pt x="0" y="53"/>
                          </a:lnTo>
                          <a:lnTo>
                            <a:pt x="3" y="76"/>
                          </a:lnTo>
                          <a:lnTo>
                            <a:pt x="10" y="101"/>
                          </a:lnTo>
                          <a:lnTo>
                            <a:pt x="23" y="116"/>
                          </a:lnTo>
                          <a:lnTo>
                            <a:pt x="44" y="128"/>
                          </a:lnTo>
                          <a:lnTo>
                            <a:pt x="209" y="242"/>
                          </a:lnTo>
                          <a:lnTo>
                            <a:pt x="224" y="249"/>
                          </a:lnTo>
                          <a:lnTo>
                            <a:pt x="243" y="252"/>
                          </a:lnTo>
                          <a:lnTo>
                            <a:pt x="267" y="249"/>
                          </a:lnTo>
                          <a:lnTo>
                            <a:pt x="288" y="234"/>
                          </a:lnTo>
                          <a:lnTo>
                            <a:pt x="304" y="214"/>
                          </a:lnTo>
                          <a:lnTo>
                            <a:pt x="310" y="190"/>
                          </a:lnTo>
                          <a:lnTo>
                            <a:pt x="307" y="172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2647080" y="2054880"/>
                  <a:ext cx="403920" cy="307440"/>
                  <a:chOff x="2647080" y="2054880"/>
                  <a:chExt cx="403920" cy="3074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2781000" y="2118960"/>
                    <a:ext cx="27000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4" h="518">
                        <a:moveTo>
                          <a:pt x="176" y="0"/>
                        </a:moveTo>
                        <a:lnTo>
                          <a:pt x="259" y="59"/>
                        </a:lnTo>
                        <a:lnTo>
                          <a:pt x="363" y="170"/>
                        </a:lnTo>
                        <a:lnTo>
                          <a:pt x="414" y="233"/>
                        </a:lnTo>
                        <a:lnTo>
                          <a:pt x="448" y="282"/>
                        </a:lnTo>
                        <a:lnTo>
                          <a:pt x="476" y="332"/>
                        </a:lnTo>
                        <a:lnTo>
                          <a:pt x="484" y="388"/>
                        </a:lnTo>
                        <a:lnTo>
                          <a:pt x="484" y="439"/>
                        </a:lnTo>
                        <a:lnTo>
                          <a:pt x="461" y="483"/>
                        </a:lnTo>
                        <a:lnTo>
                          <a:pt x="428" y="509"/>
                        </a:lnTo>
                        <a:lnTo>
                          <a:pt x="353" y="518"/>
                        </a:lnTo>
                        <a:lnTo>
                          <a:pt x="257" y="492"/>
                        </a:lnTo>
                        <a:lnTo>
                          <a:pt x="170" y="464"/>
                        </a:lnTo>
                        <a:lnTo>
                          <a:pt x="124" y="431"/>
                        </a:lnTo>
                        <a:lnTo>
                          <a:pt x="55" y="381"/>
                        </a:lnTo>
                        <a:lnTo>
                          <a:pt x="0" y="291"/>
                        </a:lnTo>
                        <a:lnTo>
                          <a:pt x="42" y="276"/>
                        </a:lnTo>
                        <a:lnTo>
                          <a:pt x="88" y="115"/>
                        </a:lnTo>
                        <a:lnTo>
                          <a:pt x="176" y="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647080" y="2054880"/>
                    <a:ext cx="249480" cy="217440"/>
                    <a:chOff x="2647080" y="2054880"/>
                    <a:chExt cx="249480" cy="2174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680200" y="2099520"/>
                      <a:ext cx="177480" cy="17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8" h="369">
                          <a:moveTo>
                            <a:pt x="23" y="142"/>
                          </a:moveTo>
                          <a:lnTo>
                            <a:pt x="51" y="80"/>
                          </a:lnTo>
                          <a:lnTo>
                            <a:pt x="82" y="44"/>
                          </a:lnTo>
                          <a:lnTo>
                            <a:pt x="124" y="16"/>
                          </a:lnTo>
                          <a:lnTo>
                            <a:pt x="188" y="0"/>
                          </a:lnTo>
                          <a:lnTo>
                            <a:pt x="245" y="4"/>
                          </a:lnTo>
                          <a:lnTo>
                            <a:pt x="281" y="18"/>
                          </a:lnTo>
                          <a:lnTo>
                            <a:pt x="300" y="50"/>
                          </a:lnTo>
                          <a:lnTo>
                            <a:pt x="318" y="99"/>
                          </a:lnTo>
                          <a:lnTo>
                            <a:pt x="313" y="167"/>
                          </a:lnTo>
                          <a:lnTo>
                            <a:pt x="300" y="227"/>
                          </a:lnTo>
                          <a:lnTo>
                            <a:pt x="275" y="282"/>
                          </a:lnTo>
                          <a:lnTo>
                            <a:pt x="235" y="333"/>
                          </a:lnTo>
                          <a:lnTo>
                            <a:pt x="169" y="369"/>
                          </a:lnTo>
                          <a:lnTo>
                            <a:pt x="90" y="362"/>
                          </a:lnTo>
                          <a:lnTo>
                            <a:pt x="39" y="338"/>
                          </a:lnTo>
                          <a:lnTo>
                            <a:pt x="0" y="282"/>
                          </a:lnTo>
                          <a:lnTo>
                            <a:pt x="3" y="210"/>
                          </a:lnTo>
                          <a:lnTo>
                            <a:pt x="23" y="142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713680" y="2196720"/>
                      <a:ext cx="50400" cy="48960"/>
                    </a:xfrm>
                    <a:prstGeom prst="ellipse">
                      <a:avLst/>
                    </a:prstGeom>
                    <a:solidFill>
                      <a:srgbClr val="00008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2647080" y="2054880"/>
                      <a:ext cx="24948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8" h="249">
                          <a:moveTo>
                            <a:pt x="14" y="146"/>
                          </a:moveTo>
                          <a:lnTo>
                            <a:pt x="36" y="131"/>
                          </a:lnTo>
                          <a:lnTo>
                            <a:pt x="368" y="1"/>
                          </a:lnTo>
                          <a:lnTo>
                            <a:pt x="390" y="0"/>
                          </a:lnTo>
                          <a:lnTo>
                            <a:pt x="411" y="9"/>
                          </a:lnTo>
                          <a:lnTo>
                            <a:pt x="433" y="25"/>
                          </a:lnTo>
                          <a:lnTo>
                            <a:pt x="448" y="53"/>
                          </a:lnTo>
                          <a:lnTo>
                            <a:pt x="445" y="77"/>
                          </a:lnTo>
                          <a:lnTo>
                            <a:pt x="437" y="102"/>
                          </a:lnTo>
                          <a:lnTo>
                            <a:pt x="424" y="117"/>
                          </a:lnTo>
                          <a:lnTo>
                            <a:pt x="403" y="128"/>
                          </a:lnTo>
                          <a:lnTo>
                            <a:pt x="85" y="248"/>
                          </a:lnTo>
                          <a:lnTo>
                            <a:pt x="65" y="249"/>
                          </a:lnTo>
                          <a:lnTo>
                            <a:pt x="45" y="244"/>
                          </a:lnTo>
                          <a:lnTo>
                            <a:pt x="27" y="233"/>
                          </a:lnTo>
                          <a:lnTo>
                            <a:pt x="9" y="218"/>
                          </a:lnTo>
                          <a:lnTo>
                            <a:pt x="0" y="196"/>
                          </a:lnTo>
                          <a:lnTo>
                            <a:pt x="3" y="168"/>
                          </a:lnTo>
                          <a:lnTo>
                            <a:pt x="14" y="146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1289520" y="2536200"/>
                <a:ext cx="1090800" cy="646560"/>
                <a:chOff x="1289520" y="2536200"/>
                <a:chExt cx="1090800" cy="6465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289520" y="2536200"/>
                  <a:ext cx="1090800" cy="487800"/>
                </a:xfrm>
                <a:custGeom>
                  <a:avLst/>
                  <a:gdLst/>
                  <a:ahLst/>
                  <a:rect l="l" t="t" r="r" b="b"/>
                  <a:pathLst>
                    <a:path w="1948" h="1042">
                      <a:moveTo>
                        <a:pt x="0" y="462"/>
                      </a:moveTo>
                      <a:lnTo>
                        <a:pt x="154" y="462"/>
                      </a:lnTo>
                      <a:lnTo>
                        <a:pt x="241" y="532"/>
                      </a:lnTo>
                      <a:lnTo>
                        <a:pt x="299" y="598"/>
                      </a:lnTo>
                      <a:lnTo>
                        <a:pt x="421" y="636"/>
                      </a:lnTo>
                      <a:lnTo>
                        <a:pt x="508" y="750"/>
                      </a:lnTo>
                      <a:lnTo>
                        <a:pt x="645" y="808"/>
                      </a:lnTo>
                      <a:lnTo>
                        <a:pt x="816" y="924"/>
                      </a:lnTo>
                      <a:lnTo>
                        <a:pt x="1026" y="983"/>
                      </a:lnTo>
                      <a:lnTo>
                        <a:pt x="1305" y="1032"/>
                      </a:lnTo>
                      <a:lnTo>
                        <a:pt x="1578" y="1042"/>
                      </a:lnTo>
                      <a:lnTo>
                        <a:pt x="1821" y="926"/>
                      </a:lnTo>
                      <a:lnTo>
                        <a:pt x="1948" y="750"/>
                      </a:lnTo>
                      <a:lnTo>
                        <a:pt x="1671" y="0"/>
                      </a:lnTo>
                      <a:lnTo>
                        <a:pt x="1556" y="0"/>
                      </a:lnTo>
                      <a:lnTo>
                        <a:pt x="1401" y="86"/>
                      </a:lnTo>
                      <a:lnTo>
                        <a:pt x="1094" y="387"/>
                      </a:lnTo>
                      <a:lnTo>
                        <a:pt x="960" y="357"/>
                      </a:lnTo>
                      <a:lnTo>
                        <a:pt x="701" y="300"/>
                      </a:lnTo>
                      <a:lnTo>
                        <a:pt x="546" y="232"/>
                      </a:lnTo>
                      <a:lnTo>
                        <a:pt x="315" y="96"/>
                      </a:lnTo>
                      <a:lnTo>
                        <a:pt x="250" y="96"/>
                      </a:lnTo>
                      <a:lnTo>
                        <a:pt x="86" y="146"/>
                      </a:lnTo>
                      <a:lnTo>
                        <a:pt x="0" y="4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917360" y="3024000"/>
                  <a:ext cx="147600" cy="158760"/>
                </a:xfrm>
                <a:custGeom>
                  <a:avLst/>
                  <a:gdLst/>
                  <a:ahLst/>
                  <a:rect l="l" t="t" r="r" b="b"/>
                  <a:pathLst>
                    <a:path w="265" h="339">
                      <a:moveTo>
                        <a:pt x="265" y="0"/>
                      </a:moveTo>
                      <a:lnTo>
                        <a:pt x="222" y="87"/>
                      </a:lnTo>
                      <a:lnTo>
                        <a:pt x="194" y="140"/>
                      </a:lnTo>
                      <a:lnTo>
                        <a:pt x="130" y="195"/>
                      </a:lnTo>
                      <a:lnTo>
                        <a:pt x="83" y="258"/>
                      </a:lnTo>
                      <a:lnTo>
                        <a:pt x="30" y="311"/>
                      </a:lnTo>
                      <a:lnTo>
                        <a:pt x="0" y="339"/>
                      </a:lnTo>
                      <a:lnTo>
                        <a:pt x="39" y="335"/>
                      </a:lnTo>
                      <a:lnTo>
                        <a:pt x="79" y="311"/>
                      </a:lnTo>
                      <a:lnTo>
                        <a:pt x="126" y="288"/>
                      </a:lnTo>
                      <a:lnTo>
                        <a:pt x="149" y="273"/>
                      </a:lnTo>
                      <a:lnTo>
                        <a:pt x="160" y="239"/>
                      </a:lnTo>
                      <a:lnTo>
                        <a:pt x="179" y="209"/>
                      </a:lnTo>
                      <a:lnTo>
                        <a:pt x="204" y="172"/>
                      </a:lnTo>
                      <a:lnTo>
                        <a:pt x="231" y="140"/>
                      </a:lnTo>
                      <a:lnTo>
                        <a:pt x="250" y="91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46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155600" y="2524680"/>
                <a:ext cx="315000" cy="331920"/>
                <a:chOff x="1155600" y="2524680"/>
                <a:chExt cx="315000" cy="3319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155600" y="2524680"/>
                  <a:ext cx="315000" cy="331920"/>
                </a:xfrm>
                <a:custGeom>
                  <a:avLst/>
                  <a:gdLst/>
                  <a:ahLst/>
                  <a:rect l="l" t="t" r="r" b="b"/>
                  <a:pathLst>
                    <a:path w="564" h="708">
                      <a:moveTo>
                        <a:pt x="358" y="39"/>
                      </a:moveTo>
                      <a:lnTo>
                        <a:pt x="457" y="0"/>
                      </a:lnTo>
                      <a:lnTo>
                        <a:pt x="496" y="4"/>
                      </a:lnTo>
                      <a:lnTo>
                        <a:pt x="522" y="44"/>
                      </a:lnTo>
                      <a:lnTo>
                        <a:pt x="509" y="91"/>
                      </a:lnTo>
                      <a:lnTo>
                        <a:pt x="471" y="124"/>
                      </a:lnTo>
                      <a:lnTo>
                        <a:pt x="420" y="150"/>
                      </a:lnTo>
                      <a:lnTo>
                        <a:pt x="354" y="177"/>
                      </a:lnTo>
                      <a:lnTo>
                        <a:pt x="294" y="186"/>
                      </a:lnTo>
                      <a:lnTo>
                        <a:pt x="245" y="191"/>
                      </a:lnTo>
                      <a:lnTo>
                        <a:pt x="289" y="203"/>
                      </a:lnTo>
                      <a:lnTo>
                        <a:pt x="342" y="206"/>
                      </a:lnTo>
                      <a:lnTo>
                        <a:pt x="426" y="178"/>
                      </a:lnTo>
                      <a:lnTo>
                        <a:pt x="516" y="140"/>
                      </a:lnTo>
                      <a:lnTo>
                        <a:pt x="543" y="150"/>
                      </a:lnTo>
                      <a:lnTo>
                        <a:pt x="552" y="180"/>
                      </a:lnTo>
                      <a:lnTo>
                        <a:pt x="544" y="231"/>
                      </a:lnTo>
                      <a:lnTo>
                        <a:pt x="512" y="267"/>
                      </a:lnTo>
                      <a:lnTo>
                        <a:pt x="447" y="305"/>
                      </a:lnTo>
                      <a:lnTo>
                        <a:pt x="270" y="357"/>
                      </a:lnTo>
                      <a:lnTo>
                        <a:pt x="373" y="349"/>
                      </a:lnTo>
                      <a:lnTo>
                        <a:pt x="454" y="338"/>
                      </a:lnTo>
                      <a:lnTo>
                        <a:pt x="534" y="318"/>
                      </a:lnTo>
                      <a:lnTo>
                        <a:pt x="564" y="344"/>
                      </a:lnTo>
                      <a:lnTo>
                        <a:pt x="555" y="383"/>
                      </a:lnTo>
                      <a:lnTo>
                        <a:pt x="533" y="419"/>
                      </a:lnTo>
                      <a:lnTo>
                        <a:pt x="474" y="450"/>
                      </a:lnTo>
                      <a:lnTo>
                        <a:pt x="392" y="475"/>
                      </a:lnTo>
                      <a:lnTo>
                        <a:pt x="280" y="494"/>
                      </a:lnTo>
                      <a:lnTo>
                        <a:pt x="232" y="558"/>
                      </a:lnTo>
                      <a:lnTo>
                        <a:pt x="211" y="640"/>
                      </a:lnTo>
                      <a:lnTo>
                        <a:pt x="155" y="686"/>
                      </a:lnTo>
                      <a:lnTo>
                        <a:pt x="108" y="708"/>
                      </a:lnTo>
                      <a:lnTo>
                        <a:pt x="59" y="705"/>
                      </a:lnTo>
                      <a:lnTo>
                        <a:pt x="29" y="679"/>
                      </a:lnTo>
                      <a:lnTo>
                        <a:pt x="19" y="621"/>
                      </a:lnTo>
                      <a:lnTo>
                        <a:pt x="28" y="563"/>
                      </a:lnTo>
                      <a:lnTo>
                        <a:pt x="54" y="504"/>
                      </a:lnTo>
                      <a:lnTo>
                        <a:pt x="102" y="469"/>
                      </a:lnTo>
                      <a:lnTo>
                        <a:pt x="63" y="454"/>
                      </a:lnTo>
                      <a:lnTo>
                        <a:pt x="35" y="434"/>
                      </a:lnTo>
                      <a:lnTo>
                        <a:pt x="28" y="397"/>
                      </a:lnTo>
                      <a:lnTo>
                        <a:pt x="38" y="351"/>
                      </a:lnTo>
                      <a:lnTo>
                        <a:pt x="57" y="327"/>
                      </a:lnTo>
                      <a:lnTo>
                        <a:pt x="28" y="313"/>
                      </a:lnTo>
                      <a:lnTo>
                        <a:pt x="3" y="283"/>
                      </a:lnTo>
                      <a:lnTo>
                        <a:pt x="0" y="239"/>
                      </a:lnTo>
                      <a:lnTo>
                        <a:pt x="18" y="205"/>
                      </a:lnTo>
                      <a:lnTo>
                        <a:pt x="44" y="184"/>
                      </a:lnTo>
                      <a:lnTo>
                        <a:pt x="16" y="146"/>
                      </a:lnTo>
                      <a:lnTo>
                        <a:pt x="19" y="106"/>
                      </a:lnTo>
                      <a:lnTo>
                        <a:pt x="37" y="70"/>
                      </a:lnTo>
                      <a:lnTo>
                        <a:pt x="69" y="38"/>
                      </a:lnTo>
                      <a:lnTo>
                        <a:pt x="119" y="28"/>
                      </a:lnTo>
                      <a:lnTo>
                        <a:pt x="177" y="42"/>
                      </a:lnTo>
                      <a:lnTo>
                        <a:pt x="263" y="54"/>
                      </a:lnTo>
                      <a:lnTo>
                        <a:pt x="358" y="39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210680" y="2616120"/>
                  <a:ext cx="104040" cy="9720"/>
                </a:xfrm>
                <a:custGeom>
                  <a:avLst/>
                  <a:gdLst/>
                  <a:ahLst/>
                  <a:rect l="l" t="t" r="r" b="b"/>
                  <a:pathLst>
                    <a:path w="188" h="23">
                      <a:moveTo>
                        <a:pt x="0" y="0"/>
                      </a:moveTo>
                      <a:lnTo>
                        <a:pt x="48" y="17"/>
                      </a:lnTo>
                      <a:lnTo>
                        <a:pt x="112" y="23"/>
                      </a:lnTo>
                      <a:lnTo>
                        <a:pt x="18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02040" y="2675160"/>
                  <a:ext cx="110520" cy="16560"/>
                </a:xfrm>
                <a:custGeom>
                  <a:avLst/>
                  <a:gdLst/>
                  <a:ahLst/>
                  <a:rect l="l" t="t" r="r" b="b"/>
                  <a:pathLst>
                    <a:path w="199" h="37">
                      <a:moveTo>
                        <a:pt x="0" y="0"/>
                      </a:moveTo>
                      <a:lnTo>
                        <a:pt x="56" y="26"/>
                      </a:lnTo>
                      <a:lnTo>
                        <a:pt x="100" y="34"/>
                      </a:lnTo>
                      <a:lnTo>
                        <a:pt x="138" y="37"/>
                      </a:lnTo>
                      <a:lnTo>
                        <a:pt x="199" y="3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217520" y="2743920"/>
                  <a:ext cx="90360" cy="11160"/>
                </a:xfrm>
                <a:custGeom>
                  <a:avLst/>
                  <a:gdLst/>
                  <a:ahLst/>
                  <a:rect l="l" t="t" r="r" b="b"/>
                  <a:pathLst>
                    <a:path w="162" h="24">
                      <a:moveTo>
                        <a:pt x="0" y="0"/>
                      </a:moveTo>
                      <a:lnTo>
                        <a:pt x="48" y="16"/>
                      </a:lnTo>
                      <a:lnTo>
                        <a:pt x="101" y="24"/>
                      </a:lnTo>
                      <a:lnTo>
                        <a:pt x="162" y="2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198800" y="2783520"/>
                  <a:ext cx="73440" cy="61560"/>
                </a:xfrm>
                <a:custGeom>
                  <a:avLst/>
                  <a:gdLst/>
                  <a:ahLst/>
                  <a:rect l="l" t="t" r="r" b="b"/>
                  <a:pathLst>
                    <a:path w="131" h="130">
                      <a:moveTo>
                        <a:pt x="0" y="69"/>
                      </a:moveTo>
                      <a:lnTo>
                        <a:pt x="30" y="40"/>
                      </a:lnTo>
                      <a:lnTo>
                        <a:pt x="53" y="3"/>
                      </a:lnTo>
                      <a:lnTo>
                        <a:pt x="90" y="0"/>
                      </a:lnTo>
                      <a:lnTo>
                        <a:pt x="120" y="13"/>
                      </a:lnTo>
                      <a:lnTo>
                        <a:pt x="131" y="46"/>
                      </a:lnTo>
                      <a:lnTo>
                        <a:pt x="128" y="72"/>
                      </a:lnTo>
                      <a:lnTo>
                        <a:pt x="117" y="102"/>
                      </a:lnTo>
                      <a:lnTo>
                        <a:pt x="89" y="13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742760" y="2637360"/>
                <a:ext cx="1104120" cy="686520"/>
                <a:chOff x="1742760" y="2637360"/>
                <a:chExt cx="1104120" cy="6865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742760" y="2637360"/>
                  <a:ext cx="1104120" cy="686520"/>
                </a:xfrm>
                <a:custGeom>
                  <a:avLst/>
                  <a:gdLst/>
                  <a:ahLst/>
                  <a:rect l="l" t="t" r="r" b="b"/>
                  <a:pathLst>
                    <a:path w="1976" h="1463">
                      <a:moveTo>
                        <a:pt x="525" y="703"/>
                      </a:moveTo>
                      <a:lnTo>
                        <a:pt x="636" y="751"/>
                      </a:lnTo>
                      <a:lnTo>
                        <a:pt x="680" y="686"/>
                      </a:lnTo>
                      <a:lnTo>
                        <a:pt x="749" y="596"/>
                      </a:lnTo>
                      <a:lnTo>
                        <a:pt x="833" y="505"/>
                      </a:lnTo>
                      <a:lnTo>
                        <a:pt x="944" y="419"/>
                      </a:lnTo>
                      <a:lnTo>
                        <a:pt x="1081" y="320"/>
                      </a:lnTo>
                      <a:lnTo>
                        <a:pt x="1245" y="226"/>
                      </a:lnTo>
                      <a:lnTo>
                        <a:pt x="1424" y="121"/>
                      </a:lnTo>
                      <a:lnTo>
                        <a:pt x="1621" y="5"/>
                      </a:lnTo>
                      <a:lnTo>
                        <a:pt x="1697" y="0"/>
                      </a:lnTo>
                      <a:lnTo>
                        <a:pt x="1788" y="40"/>
                      </a:lnTo>
                      <a:lnTo>
                        <a:pt x="1869" y="140"/>
                      </a:lnTo>
                      <a:lnTo>
                        <a:pt x="1927" y="270"/>
                      </a:lnTo>
                      <a:lnTo>
                        <a:pt x="1955" y="419"/>
                      </a:lnTo>
                      <a:lnTo>
                        <a:pt x="1976" y="648"/>
                      </a:lnTo>
                      <a:lnTo>
                        <a:pt x="1968" y="794"/>
                      </a:lnTo>
                      <a:lnTo>
                        <a:pt x="1936" y="980"/>
                      </a:lnTo>
                      <a:lnTo>
                        <a:pt x="1874" y="1162"/>
                      </a:lnTo>
                      <a:lnTo>
                        <a:pt x="1795" y="1328"/>
                      </a:lnTo>
                      <a:lnTo>
                        <a:pt x="1707" y="1463"/>
                      </a:lnTo>
                      <a:lnTo>
                        <a:pt x="0" y="1463"/>
                      </a:lnTo>
                      <a:lnTo>
                        <a:pt x="152" y="1128"/>
                      </a:lnTo>
                      <a:lnTo>
                        <a:pt x="237" y="1168"/>
                      </a:lnTo>
                      <a:lnTo>
                        <a:pt x="324" y="1101"/>
                      </a:lnTo>
                      <a:lnTo>
                        <a:pt x="410" y="1023"/>
                      </a:lnTo>
                      <a:lnTo>
                        <a:pt x="448" y="976"/>
                      </a:lnTo>
                      <a:lnTo>
                        <a:pt x="497" y="890"/>
                      </a:lnTo>
                      <a:lnTo>
                        <a:pt x="525" y="70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2071440" y="2855520"/>
                  <a:ext cx="446040" cy="358200"/>
                  <a:chOff x="2071440" y="2855520"/>
                  <a:chExt cx="446040" cy="3582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2071440" y="2859480"/>
                    <a:ext cx="4460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800" h="756">
                        <a:moveTo>
                          <a:pt x="0" y="257"/>
                        </a:moveTo>
                        <a:lnTo>
                          <a:pt x="39" y="287"/>
                        </a:lnTo>
                        <a:lnTo>
                          <a:pt x="76" y="310"/>
                        </a:lnTo>
                        <a:lnTo>
                          <a:pt x="157" y="368"/>
                        </a:lnTo>
                        <a:lnTo>
                          <a:pt x="225" y="425"/>
                        </a:lnTo>
                        <a:lnTo>
                          <a:pt x="267" y="473"/>
                        </a:lnTo>
                        <a:lnTo>
                          <a:pt x="312" y="530"/>
                        </a:lnTo>
                        <a:lnTo>
                          <a:pt x="316" y="577"/>
                        </a:lnTo>
                        <a:lnTo>
                          <a:pt x="355" y="572"/>
                        </a:lnTo>
                        <a:lnTo>
                          <a:pt x="365" y="592"/>
                        </a:lnTo>
                        <a:lnTo>
                          <a:pt x="387" y="626"/>
                        </a:lnTo>
                        <a:lnTo>
                          <a:pt x="397" y="645"/>
                        </a:lnTo>
                        <a:lnTo>
                          <a:pt x="387" y="660"/>
                        </a:lnTo>
                        <a:lnTo>
                          <a:pt x="422" y="668"/>
                        </a:lnTo>
                        <a:lnTo>
                          <a:pt x="480" y="707"/>
                        </a:lnTo>
                        <a:lnTo>
                          <a:pt x="484" y="756"/>
                        </a:lnTo>
                        <a:lnTo>
                          <a:pt x="490" y="668"/>
                        </a:lnTo>
                        <a:lnTo>
                          <a:pt x="456" y="641"/>
                        </a:lnTo>
                        <a:lnTo>
                          <a:pt x="465" y="563"/>
                        </a:lnTo>
                        <a:lnTo>
                          <a:pt x="465" y="557"/>
                        </a:lnTo>
                        <a:lnTo>
                          <a:pt x="476" y="520"/>
                        </a:lnTo>
                        <a:lnTo>
                          <a:pt x="498" y="425"/>
                        </a:lnTo>
                        <a:lnTo>
                          <a:pt x="532" y="358"/>
                        </a:lnTo>
                        <a:lnTo>
                          <a:pt x="586" y="321"/>
                        </a:lnTo>
                        <a:lnTo>
                          <a:pt x="651" y="262"/>
                        </a:lnTo>
                        <a:lnTo>
                          <a:pt x="737" y="175"/>
                        </a:lnTo>
                        <a:lnTo>
                          <a:pt x="771" y="101"/>
                        </a:lnTo>
                        <a:lnTo>
                          <a:pt x="790" y="49"/>
                        </a:lnTo>
                        <a:lnTo>
                          <a:pt x="800" y="0"/>
                        </a:lnTo>
                        <a:lnTo>
                          <a:pt x="741" y="111"/>
                        </a:lnTo>
                        <a:lnTo>
                          <a:pt x="685" y="194"/>
                        </a:lnTo>
                        <a:lnTo>
                          <a:pt x="608" y="247"/>
                        </a:lnTo>
                        <a:lnTo>
                          <a:pt x="552" y="276"/>
                        </a:lnTo>
                        <a:lnTo>
                          <a:pt x="498" y="324"/>
                        </a:lnTo>
                        <a:lnTo>
                          <a:pt x="442" y="392"/>
                        </a:lnTo>
                        <a:lnTo>
                          <a:pt x="412" y="443"/>
                        </a:lnTo>
                        <a:lnTo>
                          <a:pt x="408" y="511"/>
                        </a:lnTo>
                        <a:lnTo>
                          <a:pt x="397" y="577"/>
                        </a:lnTo>
                        <a:lnTo>
                          <a:pt x="412" y="597"/>
                        </a:lnTo>
                        <a:lnTo>
                          <a:pt x="383" y="577"/>
                        </a:lnTo>
                        <a:lnTo>
                          <a:pt x="375" y="539"/>
                        </a:lnTo>
                        <a:lnTo>
                          <a:pt x="346" y="545"/>
                        </a:lnTo>
                        <a:lnTo>
                          <a:pt x="341" y="505"/>
                        </a:lnTo>
                        <a:lnTo>
                          <a:pt x="287" y="454"/>
                        </a:lnTo>
                        <a:lnTo>
                          <a:pt x="211" y="387"/>
                        </a:lnTo>
                        <a:lnTo>
                          <a:pt x="116" y="306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00c0e0"/>
                  </a:solidFill>
                  <a:ln w="4680">
                    <a:solidFill>
                      <a:srgbClr val="0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73240" y="2855520"/>
                    <a:ext cx="44280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2" h="679">
                        <a:moveTo>
                          <a:pt x="0" y="272"/>
                        </a:moveTo>
                        <a:lnTo>
                          <a:pt x="66" y="282"/>
                        </a:lnTo>
                        <a:lnTo>
                          <a:pt x="124" y="326"/>
                        </a:lnTo>
                        <a:lnTo>
                          <a:pt x="233" y="406"/>
                        </a:lnTo>
                        <a:lnTo>
                          <a:pt x="335" y="511"/>
                        </a:lnTo>
                        <a:lnTo>
                          <a:pt x="339" y="548"/>
                        </a:lnTo>
                        <a:lnTo>
                          <a:pt x="372" y="539"/>
                        </a:lnTo>
                        <a:lnTo>
                          <a:pt x="392" y="583"/>
                        </a:lnTo>
                        <a:lnTo>
                          <a:pt x="397" y="613"/>
                        </a:lnTo>
                        <a:lnTo>
                          <a:pt x="468" y="679"/>
                        </a:lnTo>
                        <a:lnTo>
                          <a:pt x="397" y="608"/>
                        </a:lnTo>
                        <a:lnTo>
                          <a:pt x="388" y="568"/>
                        </a:lnTo>
                        <a:lnTo>
                          <a:pt x="403" y="450"/>
                        </a:lnTo>
                        <a:lnTo>
                          <a:pt x="463" y="353"/>
                        </a:lnTo>
                        <a:lnTo>
                          <a:pt x="556" y="276"/>
                        </a:lnTo>
                        <a:lnTo>
                          <a:pt x="646" y="221"/>
                        </a:lnTo>
                        <a:lnTo>
                          <a:pt x="708" y="148"/>
                        </a:lnTo>
                        <a:lnTo>
                          <a:pt x="752" y="89"/>
                        </a:lnTo>
                        <a:lnTo>
                          <a:pt x="792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1814760" y="3183120"/>
                  <a:ext cx="175680" cy="138960"/>
                  <a:chOff x="1814760" y="3183120"/>
                  <a:chExt cx="175680" cy="1389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814760" y="3183120"/>
                    <a:ext cx="17568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94">
                        <a:moveTo>
                          <a:pt x="0" y="0"/>
                        </a:moveTo>
                        <a:lnTo>
                          <a:pt x="153" y="40"/>
                        </a:lnTo>
                        <a:lnTo>
                          <a:pt x="192" y="70"/>
                        </a:lnTo>
                        <a:lnTo>
                          <a:pt x="226" y="160"/>
                        </a:lnTo>
                        <a:lnTo>
                          <a:pt x="230" y="165"/>
                        </a:lnTo>
                        <a:lnTo>
                          <a:pt x="255" y="194"/>
                        </a:lnTo>
                        <a:lnTo>
                          <a:pt x="274" y="222"/>
                        </a:lnTo>
                        <a:lnTo>
                          <a:pt x="301" y="238"/>
                        </a:lnTo>
                        <a:lnTo>
                          <a:pt x="301" y="267"/>
                        </a:lnTo>
                        <a:lnTo>
                          <a:pt x="314" y="294"/>
                        </a:lnTo>
                        <a:lnTo>
                          <a:pt x="289" y="294"/>
                        </a:lnTo>
                        <a:lnTo>
                          <a:pt x="288" y="282"/>
                        </a:lnTo>
                        <a:lnTo>
                          <a:pt x="288" y="248"/>
                        </a:lnTo>
                        <a:lnTo>
                          <a:pt x="245" y="226"/>
                        </a:lnTo>
                        <a:lnTo>
                          <a:pt x="211" y="170"/>
                        </a:lnTo>
                        <a:lnTo>
                          <a:pt x="192" y="132"/>
                        </a:lnTo>
                        <a:lnTo>
                          <a:pt x="162" y="70"/>
                        </a:lnTo>
                        <a:lnTo>
                          <a:pt x="105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0e0"/>
                  </a:solidFill>
                  <a:ln w="4680">
                    <a:solidFill>
                      <a:srgbClr val="0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824480" y="3184560"/>
                    <a:ext cx="14940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93">
                        <a:moveTo>
                          <a:pt x="0" y="0"/>
                        </a:moveTo>
                        <a:lnTo>
                          <a:pt x="101" y="42"/>
                        </a:lnTo>
                        <a:lnTo>
                          <a:pt x="146" y="69"/>
                        </a:lnTo>
                        <a:lnTo>
                          <a:pt x="169" y="115"/>
                        </a:lnTo>
                        <a:lnTo>
                          <a:pt x="191" y="175"/>
                        </a:lnTo>
                        <a:lnTo>
                          <a:pt x="214" y="211"/>
                        </a:lnTo>
                        <a:lnTo>
                          <a:pt x="245" y="233"/>
                        </a:lnTo>
                        <a:lnTo>
                          <a:pt x="262" y="250"/>
                        </a:lnTo>
                        <a:lnTo>
                          <a:pt x="267" y="293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2585160" y="3020040"/>
                  <a:ext cx="257760" cy="303480"/>
                  <a:chOff x="2585160" y="3020040"/>
                  <a:chExt cx="257760" cy="3034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2589840" y="3024000"/>
                    <a:ext cx="2530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634">
                        <a:moveTo>
                          <a:pt x="453" y="0"/>
                        </a:moveTo>
                        <a:lnTo>
                          <a:pt x="438" y="74"/>
                        </a:lnTo>
                        <a:lnTo>
                          <a:pt x="410" y="125"/>
                        </a:lnTo>
                        <a:lnTo>
                          <a:pt x="357" y="172"/>
                        </a:lnTo>
                        <a:lnTo>
                          <a:pt x="294" y="224"/>
                        </a:lnTo>
                        <a:lnTo>
                          <a:pt x="220" y="279"/>
                        </a:lnTo>
                        <a:lnTo>
                          <a:pt x="161" y="326"/>
                        </a:lnTo>
                        <a:lnTo>
                          <a:pt x="114" y="403"/>
                        </a:lnTo>
                        <a:lnTo>
                          <a:pt x="80" y="471"/>
                        </a:lnTo>
                        <a:lnTo>
                          <a:pt x="65" y="533"/>
                        </a:lnTo>
                        <a:lnTo>
                          <a:pt x="46" y="583"/>
                        </a:lnTo>
                        <a:lnTo>
                          <a:pt x="24" y="625"/>
                        </a:lnTo>
                        <a:lnTo>
                          <a:pt x="0" y="634"/>
                        </a:lnTo>
                        <a:lnTo>
                          <a:pt x="33" y="631"/>
                        </a:lnTo>
                        <a:lnTo>
                          <a:pt x="56" y="631"/>
                        </a:lnTo>
                        <a:lnTo>
                          <a:pt x="95" y="577"/>
                        </a:lnTo>
                        <a:lnTo>
                          <a:pt x="109" y="519"/>
                        </a:lnTo>
                        <a:lnTo>
                          <a:pt x="128" y="471"/>
                        </a:lnTo>
                        <a:lnTo>
                          <a:pt x="161" y="409"/>
                        </a:lnTo>
                        <a:lnTo>
                          <a:pt x="205" y="364"/>
                        </a:lnTo>
                        <a:lnTo>
                          <a:pt x="235" y="320"/>
                        </a:lnTo>
                        <a:lnTo>
                          <a:pt x="289" y="283"/>
                        </a:lnTo>
                        <a:lnTo>
                          <a:pt x="342" y="254"/>
                        </a:lnTo>
                        <a:lnTo>
                          <a:pt x="390" y="187"/>
                        </a:lnTo>
                        <a:lnTo>
                          <a:pt x="413" y="140"/>
                        </a:lnTo>
                        <a:lnTo>
                          <a:pt x="435" y="97"/>
                        </a:lnTo>
                        <a:lnTo>
                          <a:pt x="453" y="0"/>
                        </a:lnTo>
                        <a:close/>
                      </a:path>
                    </a:pathLst>
                  </a:custGeom>
                  <a:solidFill>
                    <a:srgbClr val="00c0e0"/>
                  </a:solidFill>
                  <a:ln w="4680">
                    <a:solidFill>
                      <a:srgbClr val="0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585160" y="3020040"/>
                    <a:ext cx="25776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47">
                        <a:moveTo>
                          <a:pt x="0" y="647"/>
                        </a:moveTo>
                        <a:lnTo>
                          <a:pt x="43" y="628"/>
                        </a:lnTo>
                        <a:lnTo>
                          <a:pt x="70" y="589"/>
                        </a:lnTo>
                        <a:lnTo>
                          <a:pt x="84" y="523"/>
                        </a:lnTo>
                        <a:lnTo>
                          <a:pt x="123" y="409"/>
                        </a:lnTo>
                        <a:lnTo>
                          <a:pt x="185" y="321"/>
                        </a:lnTo>
                        <a:lnTo>
                          <a:pt x="306" y="235"/>
                        </a:lnTo>
                        <a:lnTo>
                          <a:pt x="359" y="195"/>
                        </a:lnTo>
                        <a:lnTo>
                          <a:pt x="437" y="111"/>
                        </a:lnTo>
                        <a:lnTo>
                          <a:pt x="456" y="42"/>
                        </a:lnTo>
                        <a:lnTo>
                          <a:pt x="464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2177280" y="2213640"/>
                <a:ext cx="172440" cy="194040"/>
                <a:chOff x="2177280" y="2213640"/>
                <a:chExt cx="172440" cy="1940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177280" y="2213640"/>
                  <a:ext cx="160920" cy="194040"/>
                </a:xfrm>
                <a:custGeom>
                  <a:avLst/>
                  <a:gdLst/>
                  <a:ahLst/>
                  <a:rect l="l" t="t" r="r" b="b"/>
                  <a:pathLst>
                    <a:path w="286" h="415">
                      <a:moveTo>
                        <a:pt x="234" y="68"/>
                      </a:moveTo>
                      <a:lnTo>
                        <a:pt x="199" y="19"/>
                      </a:lnTo>
                      <a:lnTo>
                        <a:pt x="153" y="1"/>
                      </a:lnTo>
                      <a:lnTo>
                        <a:pt x="96" y="0"/>
                      </a:lnTo>
                      <a:lnTo>
                        <a:pt x="46" y="32"/>
                      </a:lnTo>
                      <a:lnTo>
                        <a:pt x="10" y="89"/>
                      </a:lnTo>
                      <a:lnTo>
                        <a:pt x="0" y="155"/>
                      </a:lnTo>
                      <a:lnTo>
                        <a:pt x="6" y="249"/>
                      </a:lnTo>
                      <a:lnTo>
                        <a:pt x="41" y="300"/>
                      </a:lnTo>
                      <a:lnTo>
                        <a:pt x="75" y="329"/>
                      </a:lnTo>
                      <a:lnTo>
                        <a:pt x="124" y="354"/>
                      </a:lnTo>
                      <a:lnTo>
                        <a:pt x="150" y="397"/>
                      </a:lnTo>
                      <a:lnTo>
                        <a:pt x="187" y="415"/>
                      </a:lnTo>
                      <a:lnTo>
                        <a:pt x="233" y="412"/>
                      </a:lnTo>
                      <a:lnTo>
                        <a:pt x="264" y="384"/>
                      </a:lnTo>
                      <a:lnTo>
                        <a:pt x="282" y="345"/>
                      </a:lnTo>
                      <a:lnTo>
                        <a:pt x="286" y="298"/>
                      </a:lnTo>
                      <a:lnTo>
                        <a:pt x="270" y="252"/>
                      </a:lnTo>
                      <a:lnTo>
                        <a:pt x="274" y="190"/>
                      </a:lnTo>
                      <a:lnTo>
                        <a:pt x="261" y="124"/>
                      </a:lnTo>
                      <a:lnTo>
                        <a:pt x="234" y="6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217600" y="2213640"/>
                  <a:ext cx="132120" cy="182880"/>
                </a:xfrm>
                <a:custGeom>
                  <a:avLst/>
                  <a:gdLst/>
                  <a:ahLst/>
                  <a:rect l="l" t="t" r="r" b="b"/>
                  <a:pathLst>
                    <a:path w="236" h="391">
                      <a:moveTo>
                        <a:pt x="193" y="63"/>
                      </a:moveTo>
                      <a:lnTo>
                        <a:pt x="163" y="18"/>
                      </a:lnTo>
                      <a:lnTo>
                        <a:pt x="126" y="1"/>
                      </a:lnTo>
                      <a:lnTo>
                        <a:pt x="79" y="0"/>
                      </a:lnTo>
                      <a:lnTo>
                        <a:pt x="38" y="31"/>
                      </a:lnTo>
                      <a:lnTo>
                        <a:pt x="8" y="84"/>
                      </a:lnTo>
                      <a:lnTo>
                        <a:pt x="0" y="146"/>
                      </a:lnTo>
                      <a:lnTo>
                        <a:pt x="4" y="235"/>
                      </a:lnTo>
                      <a:lnTo>
                        <a:pt x="34" y="282"/>
                      </a:lnTo>
                      <a:lnTo>
                        <a:pt x="62" y="310"/>
                      </a:lnTo>
                      <a:lnTo>
                        <a:pt x="101" y="334"/>
                      </a:lnTo>
                      <a:lnTo>
                        <a:pt x="124" y="375"/>
                      </a:lnTo>
                      <a:lnTo>
                        <a:pt x="155" y="391"/>
                      </a:lnTo>
                      <a:lnTo>
                        <a:pt x="191" y="388"/>
                      </a:lnTo>
                      <a:lnTo>
                        <a:pt x="218" y="362"/>
                      </a:lnTo>
                      <a:lnTo>
                        <a:pt x="233" y="326"/>
                      </a:lnTo>
                      <a:lnTo>
                        <a:pt x="236" y="282"/>
                      </a:lnTo>
                      <a:lnTo>
                        <a:pt x="222" y="238"/>
                      </a:lnTo>
                      <a:lnTo>
                        <a:pt x="225" y="180"/>
                      </a:lnTo>
                      <a:lnTo>
                        <a:pt x="215" y="117"/>
                      </a:lnTo>
                      <a:lnTo>
                        <a:pt x="193" y="63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549800" y="2498040"/>
                <a:ext cx="1089000" cy="699840"/>
                <a:chOff x="1549800" y="2498040"/>
                <a:chExt cx="1089000" cy="69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971000" y="2498040"/>
                  <a:ext cx="667800" cy="470880"/>
                </a:xfrm>
                <a:custGeom>
                  <a:avLst/>
                  <a:gdLst/>
                  <a:ahLst/>
                  <a:rect l="l" t="t" r="r" b="b"/>
                  <a:pathLst>
                    <a:path w="1192" h="1005">
                      <a:moveTo>
                        <a:pt x="456" y="0"/>
                      </a:moveTo>
                      <a:lnTo>
                        <a:pt x="226" y="198"/>
                      </a:lnTo>
                      <a:lnTo>
                        <a:pt x="85" y="382"/>
                      </a:lnTo>
                      <a:lnTo>
                        <a:pt x="0" y="698"/>
                      </a:lnTo>
                      <a:lnTo>
                        <a:pt x="226" y="531"/>
                      </a:lnTo>
                      <a:lnTo>
                        <a:pt x="351" y="413"/>
                      </a:lnTo>
                      <a:lnTo>
                        <a:pt x="419" y="338"/>
                      </a:lnTo>
                      <a:lnTo>
                        <a:pt x="351" y="528"/>
                      </a:lnTo>
                      <a:lnTo>
                        <a:pt x="333" y="703"/>
                      </a:lnTo>
                      <a:lnTo>
                        <a:pt x="327" y="1005"/>
                      </a:lnTo>
                      <a:lnTo>
                        <a:pt x="366" y="918"/>
                      </a:lnTo>
                      <a:lnTo>
                        <a:pt x="443" y="793"/>
                      </a:lnTo>
                      <a:lnTo>
                        <a:pt x="568" y="698"/>
                      </a:lnTo>
                      <a:lnTo>
                        <a:pt x="682" y="649"/>
                      </a:lnTo>
                      <a:lnTo>
                        <a:pt x="959" y="520"/>
                      </a:lnTo>
                      <a:lnTo>
                        <a:pt x="1192" y="303"/>
                      </a:lnTo>
                      <a:lnTo>
                        <a:pt x="1120" y="251"/>
                      </a:lnTo>
                      <a:lnTo>
                        <a:pt x="1055" y="276"/>
                      </a:lnTo>
                      <a:lnTo>
                        <a:pt x="944" y="280"/>
                      </a:lnTo>
                      <a:lnTo>
                        <a:pt x="810" y="266"/>
                      </a:lnTo>
                      <a:lnTo>
                        <a:pt x="692" y="232"/>
                      </a:lnTo>
                      <a:lnTo>
                        <a:pt x="509" y="247"/>
                      </a:lnTo>
                      <a:lnTo>
                        <a:pt x="456" y="0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873440" y="2648520"/>
                  <a:ext cx="359280" cy="520200"/>
                </a:xfrm>
                <a:custGeom>
                  <a:avLst/>
                  <a:gdLst/>
                  <a:ahLst/>
                  <a:rect l="l" t="t" r="r" b="b"/>
                  <a:pathLst>
                    <a:path w="644" h="1109">
                      <a:moveTo>
                        <a:pt x="567" y="0"/>
                      </a:moveTo>
                      <a:lnTo>
                        <a:pt x="644" y="58"/>
                      </a:lnTo>
                      <a:lnTo>
                        <a:pt x="636" y="216"/>
                      </a:lnTo>
                      <a:lnTo>
                        <a:pt x="487" y="335"/>
                      </a:lnTo>
                      <a:lnTo>
                        <a:pt x="379" y="726"/>
                      </a:lnTo>
                      <a:lnTo>
                        <a:pt x="0" y="1109"/>
                      </a:lnTo>
                      <a:lnTo>
                        <a:pt x="174" y="570"/>
                      </a:lnTo>
                      <a:lnTo>
                        <a:pt x="366" y="276"/>
                      </a:lnTo>
                      <a:lnTo>
                        <a:pt x="396" y="96"/>
                      </a:lnTo>
                      <a:lnTo>
                        <a:pt x="567" y="0"/>
                      </a:lnTo>
                      <a:close/>
                    </a:path>
                  </a:pathLst>
                </a:custGeom>
                <a:solidFill>
                  <a:srgbClr val="ff00a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1549800" y="2677680"/>
                  <a:ext cx="524880" cy="520200"/>
                  <a:chOff x="1549800" y="2677680"/>
                  <a:chExt cx="524880" cy="52020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1549800" y="2677680"/>
                    <a:ext cx="449280" cy="419040"/>
                    <a:chOff x="1549800" y="2677680"/>
                    <a:chExt cx="449280" cy="41904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1549800" y="2677680"/>
                      <a:ext cx="44928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3" h="893">
                          <a:moveTo>
                            <a:pt x="685" y="86"/>
                          </a:moveTo>
                          <a:lnTo>
                            <a:pt x="613" y="231"/>
                          </a:lnTo>
                          <a:lnTo>
                            <a:pt x="490" y="202"/>
                          </a:lnTo>
                          <a:lnTo>
                            <a:pt x="377" y="169"/>
                          </a:lnTo>
                          <a:lnTo>
                            <a:pt x="275" y="123"/>
                          </a:lnTo>
                          <a:lnTo>
                            <a:pt x="201" y="90"/>
                          </a:lnTo>
                          <a:lnTo>
                            <a:pt x="62" y="0"/>
                          </a:lnTo>
                          <a:lnTo>
                            <a:pt x="24" y="15"/>
                          </a:lnTo>
                          <a:lnTo>
                            <a:pt x="19" y="102"/>
                          </a:lnTo>
                          <a:lnTo>
                            <a:pt x="77" y="183"/>
                          </a:lnTo>
                          <a:lnTo>
                            <a:pt x="30" y="173"/>
                          </a:lnTo>
                          <a:lnTo>
                            <a:pt x="0" y="211"/>
                          </a:lnTo>
                          <a:lnTo>
                            <a:pt x="9" y="250"/>
                          </a:lnTo>
                          <a:lnTo>
                            <a:pt x="49" y="298"/>
                          </a:lnTo>
                          <a:lnTo>
                            <a:pt x="30" y="318"/>
                          </a:lnTo>
                          <a:lnTo>
                            <a:pt x="9" y="347"/>
                          </a:lnTo>
                          <a:lnTo>
                            <a:pt x="9" y="383"/>
                          </a:lnTo>
                          <a:lnTo>
                            <a:pt x="30" y="442"/>
                          </a:lnTo>
                          <a:lnTo>
                            <a:pt x="96" y="498"/>
                          </a:lnTo>
                          <a:lnTo>
                            <a:pt x="67" y="517"/>
                          </a:lnTo>
                          <a:lnTo>
                            <a:pt x="53" y="566"/>
                          </a:lnTo>
                          <a:lnTo>
                            <a:pt x="71" y="614"/>
                          </a:lnTo>
                          <a:lnTo>
                            <a:pt x="132" y="644"/>
                          </a:lnTo>
                          <a:lnTo>
                            <a:pt x="208" y="673"/>
                          </a:lnTo>
                          <a:lnTo>
                            <a:pt x="270" y="725"/>
                          </a:lnTo>
                          <a:lnTo>
                            <a:pt x="318" y="774"/>
                          </a:lnTo>
                          <a:lnTo>
                            <a:pt x="362" y="821"/>
                          </a:lnTo>
                          <a:lnTo>
                            <a:pt x="412" y="875"/>
                          </a:lnTo>
                          <a:lnTo>
                            <a:pt x="501" y="893"/>
                          </a:lnTo>
                          <a:lnTo>
                            <a:pt x="672" y="673"/>
                          </a:lnTo>
                          <a:lnTo>
                            <a:pt x="701" y="508"/>
                          </a:lnTo>
                          <a:lnTo>
                            <a:pt x="712" y="412"/>
                          </a:lnTo>
                          <a:lnTo>
                            <a:pt x="754" y="363"/>
                          </a:lnTo>
                          <a:lnTo>
                            <a:pt x="787" y="313"/>
                          </a:lnTo>
                          <a:lnTo>
                            <a:pt x="803" y="236"/>
                          </a:lnTo>
                          <a:lnTo>
                            <a:pt x="799" y="185"/>
                          </a:lnTo>
                          <a:lnTo>
                            <a:pt x="782" y="142"/>
                          </a:lnTo>
                          <a:lnTo>
                            <a:pt x="754" y="99"/>
                          </a:lnTo>
                          <a:lnTo>
                            <a:pt x="722" y="81"/>
                          </a:lnTo>
                          <a:lnTo>
                            <a:pt x="685" y="86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1578240" y="2741040"/>
                      <a:ext cx="333000" cy="203400"/>
                      <a:chOff x="1578240" y="2741040"/>
                      <a:chExt cx="333000" cy="20340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1587960" y="2759040"/>
                        <a:ext cx="23616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3" h="149">
                            <a:moveTo>
                              <a:pt x="0" y="0"/>
                            </a:moveTo>
                            <a:lnTo>
                              <a:pt x="94" y="71"/>
                            </a:lnTo>
                            <a:lnTo>
                              <a:pt x="209" y="125"/>
                            </a:lnTo>
                            <a:lnTo>
                              <a:pt x="329" y="149"/>
                            </a:lnTo>
                            <a:lnTo>
                              <a:pt x="423" y="149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1578240" y="2820960"/>
                        <a:ext cx="171000" cy="6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8" h="139">
                            <a:moveTo>
                              <a:pt x="0" y="0"/>
                            </a:moveTo>
                            <a:lnTo>
                              <a:pt x="71" y="56"/>
                            </a:lnTo>
                            <a:lnTo>
                              <a:pt x="179" y="109"/>
                            </a:lnTo>
                            <a:lnTo>
                              <a:pt x="308" y="139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1603080" y="2910960"/>
                        <a:ext cx="11520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7" h="73">
                            <a:moveTo>
                              <a:pt x="0" y="0"/>
                            </a:moveTo>
                            <a:lnTo>
                              <a:pt x="98" y="48"/>
                            </a:lnTo>
                            <a:lnTo>
                              <a:pt x="207" y="73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1902960" y="2741040"/>
                        <a:ext cx="828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90">
                            <a:moveTo>
                              <a:pt x="7" y="90"/>
                            </a:moveTo>
                            <a:lnTo>
                              <a:pt x="0" y="52"/>
                            </a:lnTo>
                            <a:lnTo>
                              <a:pt x="1" y="30"/>
                            </a:lnTo>
                            <a:lnTo>
                              <a:pt x="15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01" name=""/>
                  <p:cNvSpPr/>
                  <p:nvPr/>
                </p:nvSpPr>
                <p:spPr>
                  <a:xfrm>
                    <a:off x="1760760" y="2888640"/>
                    <a:ext cx="3139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659">
                        <a:moveTo>
                          <a:pt x="335" y="0"/>
                        </a:moveTo>
                        <a:lnTo>
                          <a:pt x="450" y="80"/>
                        </a:lnTo>
                        <a:lnTo>
                          <a:pt x="560" y="183"/>
                        </a:lnTo>
                        <a:lnTo>
                          <a:pt x="556" y="244"/>
                        </a:lnTo>
                        <a:lnTo>
                          <a:pt x="531" y="300"/>
                        </a:lnTo>
                        <a:lnTo>
                          <a:pt x="473" y="415"/>
                        </a:lnTo>
                        <a:lnTo>
                          <a:pt x="364" y="558"/>
                        </a:lnTo>
                        <a:lnTo>
                          <a:pt x="243" y="659"/>
                        </a:lnTo>
                        <a:lnTo>
                          <a:pt x="113" y="625"/>
                        </a:lnTo>
                        <a:lnTo>
                          <a:pt x="35" y="569"/>
                        </a:lnTo>
                        <a:lnTo>
                          <a:pt x="0" y="499"/>
                        </a:lnTo>
                        <a:lnTo>
                          <a:pt x="0" y="405"/>
                        </a:lnTo>
                        <a:lnTo>
                          <a:pt x="35" y="415"/>
                        </a:lnTo>
                        <a:lnTo>
                          <a:pt x="113" y="377"/>
                        </a:lnTo>
                        <a:lnTo>
                          <a:pt x="171" y="309"/>
                        </a:lnTo>
                        <a:lnTo>
                          <a:pt x="280" y="179"/>
                        </a:lnTo>
                        <a:lnTo>
                          <a:pt x="335" y="0"/>
                        </a:lnTo>
                        <a:close/>
                      </a:path>
                    </a:pathLst>
                  </a:custGeom>
                  <a:solidFill>
                    <a:srgbClr val="c0e0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2" name=""/>
            <p:cNvSpPr/>
            <p:nvPr/>
          </p:nvSpPr>
          <p:spPr>
            <a:xfrm>
              <a:off x="257040" y="187632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ea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124080" y="3124080"/>
            <a:ext cx="3064680" cy="2361960"/>
            <a:chOff x="3124080" y="3124080"/>
            <a:chExt cx="3064680" cy="2361960"/>
          </a:xfrm>
        </p:grpSpPr>
        <p:graphicFrame>
          <p:nvGraphicFramePr>
            <p:cNvPr id="304" name=""/>
            <p:cNvGraphicFramePr/>
            <p:nvPr/>
          </p:nvGraphicFramePr>
          <p:xfrm>
            <a:off x="3124080" y="3124080"/>
            <a:ext cx="2023920" cy="23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124080"/>
                      <a:ext cx="2023920" cy="23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6" name=""/>
            <p:cNvSpPr/>
            <p:nvPr/>
          </p:nvSpPr>
          <p:spPr>
            <a:xfrm>
              <a:off x="4877280" y="4068360"/>
              <a:ext cx="131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ee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902920" y="1692360"/>
            <a:ext cx="2971080" cy="1874880"/>
            <a:chOff x="5902920" y="1692360"/>
            <a:chExt cx="2971080" cy="1874880"/>
          </a:xfrm>
        </p:grpSpPr>
        <p:sp>
          <p:nvSpPr>
            <p:cNvPr id="308" name=""/>
            <p:cNvSpPr/>
            <p:nvPr/>
          </p:nvSpPr>
          <p:spPr>
            <a:xfrm>
              <a:off x="5902920" y="199692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m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9" name=""/>
            <p:cNvGraphicFramePr/>
            <p:nvPr/>
          </p:nvGraphicFramePr>
          <p:xfrm>
            <a:off x="6664320" y="1692360"/>
            <a:ext cx="2209680" cy="187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64320" y="1692360"/>
                      <a:ext cx="2209680" cy="187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1" name=""/>
          <p:cNvGrpSpPr/>
          <p:nvPr/>
        </p:nvGrpSpPr>
        <p:grpSpPr>
          <a:xfrm>
            <a:off x="5943600" y="4491000"/>
            <a:ext cx="3068640" cy="2138400"/>
            <a:chOff x="5943600" y="4491000"/>
            <a:chExt cx="3068640" cy="2138400"/>
          </a:xfrm>
        </p:grpSpPr>
        <p:sp>
          <p:nvSpPr>
            <p:cNvPr id="312" name=""/>
            <p:cNvSpPr/>
            <p:nvPr/>
          </p:nvSpPr>
          <p:spPr>
            <a:xfrm>
              <a:off x="6706080" y="4491000"/>
              <a:ext cx="126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ou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5943600" y="4613400"/>
            <a:ext cx="3068640" cy="20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4613400"/>
                      <a:ext cx="3068640" cy="20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"/>
          <p:cNvGrpSpPr/>
          <p:nvPr/>
        </p:nvGrpSpPr>
        <p:grpSpPr>
          <a:xfrm>
            <a:off x="158760" y="4632480"/>
            <a:ext cx="2656800" cy="2266920"/>
            <a:chOff x="158760" y="4632480"/>
            <a:chExt cx="2656800" cy="2266920"/>
          </a:xfrm>
        </p:grpSpPr>
        <p:sp>
          <p:nvSpPr>
            <p:cNvPr id="316" name=""/>
            <p:cNvSpPr/>
            <p:nvPr/>
          </p:nvSpPr>
          <p:spPr>
            <a:xfrm>
              <a:off x="1729440" y="512748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a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158760" y="4632480"/>
              <a:ext cx="1824120" cy="22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100332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on is a Series of Experiences of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 advTm="7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mmunication - Mea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is a dynamic proces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ugh this process we convey a thought or feeling to someone e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it is received depends on a set of events, stimuli, that person is exposed 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you say what you say plays an important role in commun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OTAL COMMUNICATION PROCES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295280" y="1606680"/>
          <a:ext cx="65534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6680"/>
                    <a:ext cx="65534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EVELS OF COMMUNICA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a verbal: intonation of word and 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 verbal verbal: implication of words and phrases,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VER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cover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500760"/>
            <a:ext cx="80010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rriers in Communication</a:t>
            </a:r>
            <a:br>
              <a:rPr sz="44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at have to do with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Verdana"/>
              </a:rPr>
              <a:t>COMMUNICATOR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willingness to say things differen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willingness to relate to others differen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willingness to learn new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Self-Confi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Enthusia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ice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jud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22080"/>
            <a:ext cx="815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arriers in Communication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that have to do with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Verdana"/>
              </a:rPr>
              <a:t>COMMUNICATOR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agreement between verbal and non-verbal mess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Self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of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of Motivation and Trai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nguage and Vocabulary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of Self Awar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7000">
    <p:cover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11:12:59Z</dcterms:created>
  <dc:creator/>
  <dc:description/>
  <dc:language>en-US</dc:language>
  <cp:lastModifiedBy>system11</cp:lastModifiedBy>
  <dcterms:modified xsi:type="dcterms:W3CDTF">2008-09-21T11:29:14Z</dcterms:modified>
  <cp:revision>34</cp:revision>
  <dc:subject/>
  <dc:title>COMMUNICATION SKILLS</dc:title>
</cp:coreProperties>
</file>